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F7F-B69E-4E05-92A9-3F3C3964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99E-5CEC-4FF0-A76A-0B686E22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F67-D1FB-414B-8D41-38154A21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528-221C-4FC3-97DA-95248817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0BF-2BB1-4AFA-B397-83ACE2E5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CB1-3E73-4D4F-AB99-D24B694F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8C2-6244-4F56-AFCD-2101B6F4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942-5988-4931-A334-F9ABC566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F4D-0F23-437F-B873-20A184F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229-00F0-40B1-B286-654CD5F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E74-3F20-4ADA-96EE-9F613A66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FEA-1D84-464C-859F-FDCA80C1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C198-A336-409C-9A60-F8F5413B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oundtrack - Madagascar - I Like to Move it.mp3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robe-motion-ta-08"/>
          <p:cNvPicPr/>
          <p:nvPr/>
        </p:nvPicPr>
        <p:blipFill>
          <a:blip r:embed="rId2"/>
          <a:stretch/>
        </p:blipFill>
        <p:spPr>
          <a:xfrm>
            <a:off x="914400" y="457200"/>
            <a:ext cx="702324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NIMATION-DancingGrandpa"/>
          <p:cNvPicPr/>
          <p:nvPr/>
        </p:nvPicPr>
        <p:blipFill>
          <a:blip r:embed="rId3"/>
          <a:stretch/>
        </p:blipFill>
        <p:spPr>
          <a:xfrm>
            <a:off x="1523880" y="3505320"/>
            <a:ext cx="17146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732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y is Velocity important to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ilo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velocity-SEFG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bining Veloc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ing downstream  16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10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+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ing upstream           16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 10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--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km/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owing upstream"/>
          <p:cNvPicPr/>
          <p:nvPr/>
        </p:nvPicPr>
        <p:blipFill>
          <a:blip r:embed="rId1"/>
          <a:stretch/>
        </p:blipFill>
        <p:spPr>
          <a:xfrm>
            <a:off x="6248520" y="4267080"/>
            <a:ext cx="2762280" cy="1849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rowing"/>
          <p:cNvPicPr/>
          <p:nvPr/>
        </p:nvPicPr>
        <p:blipFill>
          <a:blip r:embed="rId2"/>
          <a:stretch/>
        </p:blipFill>
        <p:spPr>
          <a:xfrm>
            <a:off x="6705720" y="1295280"/>
            <a:ext cx="1933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ing it all toge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peed__Velocity__Acceleration__and_Deceleration.asf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772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576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800" y="73332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el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the rate of change in velocity; an object accelerates if its speed, direction or both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velocity  -  original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 car is traveling at 60 km/hr.  It accelerates to 85 km/hr in 5 hrs.  What is the rate of accel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(final) – V(orig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5 – 6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5 km/hr/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the acceleration is negative than the object is decelerating (slowing dow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accelertion"/>
          <p:cNvPicPr/>
          <p:nvPr/>
        </p:nvPicPr>
        <p:blipFill>
          <a:blip r:embed="rId1"/>
          <a:stretch/>
        </p:blipFill>
        <p:spPr>
          <a:xfrm>
            <a:off x="6172200" y="1371600"/>
            <a:ext cx="277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ing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acceleration graph"/>
          <p:cNvPicPr/>
          <p:nvPr/>
        </p:nvPicPr>
        <p:blipFill>
          <a:blip r:embed="rId1"/>
          <a:stretch/>
        </p:blipFill>
        <p:spPr>
          <a:xfrm>
            <a:off x="533520" y="1905120"/>
            <a:ext cx="350820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ecel graph"/>
          <p:cNvPicPr/>
          <p:nvPr/>
        </p:nvPicPr>
        <p:blipFill>
          <a:blip r:embed="rId2"/>
          <a:stretch/>
        </p:blipFill>
        <p:spPr>
          <a:xfrm>
            <a:off x="5105520" y="3657600"/>
            <a:ext cx="3611520" cy="2536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204200" y="420696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547600" y="298764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l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lculating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alculating_Average_Speed.asf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7999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tion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depends on the mass and velocity with which it is trav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mentum = mass x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What is the momentum of a 5 kg blue-jay flying at 10 m/s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5 kg x 1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 =  50 kg/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op"/>
          <p:cNvPicPr/>
          <p:nvPr/>
        </p:nvPicPr>
        <p:blipFill>
          <a:blip r:embed="rId1"/>
          <a:stretch/>
        </p:blipFill>
        <p:spPr>
          <a:xfrm>
            <a:off x="6095880" y="4038480"/>
            <a:ext cx="28558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ansfer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ill Nye the Science Guy - A Transfer of Momentum.WMV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588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447920" y="1447920"/>
            <a:ext cx="5943600" cy="3504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bus_momentum"/>
          <p:cNvPicPr/>
          <p:nvPr/>
        </p:nvPicPr>
        <p:blipFill>
          <a:blip r:embed="rId1"/>
          <a:stretch/>
        </p:blipFill>
        <p:spPr>
          <a:xfrm>
            <a:off x="1905120" y="1523880"/>
            <a:ext cx="49543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can you use all this in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video.WMV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1772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pplying physics 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Amazing Physics.WMV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07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do you KNOW something mo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me of refer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background or object used for comparison.  All movement is described relative to a frame of 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:  a train takes off with you in it.  To the people watching on the ground, it is the Earth.  To you, it is the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st comm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ame of reference is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arthAS17"/>
          <p:cNvPicPr/>
          <p:nvPr/>
        </p:nvPicPr>
        <p:blipFill>
          <a:blip r:embed="rId1"/>
          <a:stretch/>
        </p:blipFill>
        <p:spPr>
          <a:xfrm>
            <a:off x="6019920" y="2362320"/>
            <a:ext cx="27111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the frame of 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lemonshot-1"/>
          <p:cNvPicPr/>
          <p:nvPr/>
        </p:nvPicPr>
        <p:blipFill>
          <a:blip r:embed="rId1"/>
          <a:stretch/>
        </p:blipFill>
        <p:spPr>
          <a:xfrm>
            <a:off x="152280" y="1165320"/>
            <a:ext cx="195768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lemonshot-2"/>
          <p:cNvPicPr/>
          <p:nvPr/>
        </p:nvPicPr>
        <p:blipFill>
          <a:blip r:embed="rId2"/>
          <a:stretch/>
        </p:blipFill>
        <p:spPr>
          <a:xfrm>
            <a:off x="1828800" y="2306520"/>
            <a:ext cx="1984320" cy="1258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lemonshot-3"/>
          <p:cNvPicPr/>
          <p:nvPr/>
        </p:nvPicPr>
        <p:blipFill>
          <a:blip r:embed="rId3"/>
          <a:stretch/>
        </p:blipFill>
        <p:spPr>
          <a:xfrm>
            <a:off x="3733920" y="3344760"/>
            <a:ext cx="1914480" cy="121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lemonshot-4"/>
          <p:cNvPicPr/>
          <p:nvPr/>
        </p:nvPicPr>
        <p:blipFill>
          <a:blip r:embed="rId4"/>
          <a:stretch/>
        </p:blipFill>
        <p:spPr>
          <a:xfrm>
            <a:off x="5562720" y="4440240"/>
            <a:ext cx="1990440" cy="126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lemonshot-5"/>
          <p:cNvPicPr/>
          <p:nvPr/>
        </p:nvPicPr>
        <p:blipFill>
          <a:blip r:embed="rId5"/>
          <a:stretch/>
        </p:blipFill>
        <p:spPr>
          <a:xfrm>
            <a:off x="7162920" y="5484960"/>
            <a:ext cx="1981080" cy="127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302760" y="4648320"/>
            <a:ext cx="399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s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ullet go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the lem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asuring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6172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a change in position in a certain amoun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the rate at which an object mo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ed = Distance/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ed is measured m/sec or km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animated-quartic"/>
          <p:cNvPicPr/>
          <p:nvPr/>
        </p:nvPicPr>
        <p:blipFill>
          <a:blip r:embed="rId1"/>
          <a:stretch/>
        </p:blipFill>
        <p:spPr>
          <a:xfrm>
            <a:off x="6019920" y="1600200"/>
            <a:ext cx="26287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ich animal is the fas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No_Speed_Limit__Introducing_the_Cheetah.asf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152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6856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’s Pract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57200" y="1447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348840" y="1600200"/>
            <a:ext cx="976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what speed did a plane fly if it trave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0 m in 5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At what speed did a boy run if he went 2 k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20 m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t what speed did a bird fly if he went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tree to another (35 m) in 7 sec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3"/>
          <p:cNvSpPr/>
          <p:nvPr/>
        </p:nvSpPr>
        <p:spPr>
          <a:xfrm>
            <a:off x="6324480" y="4724280"/>
            <a:ext cx="2286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ypes of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ant sp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when the speed of an object does not change.  The graph is always a straigh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 spe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describes the speed of motion when speed is changing; graph is a jagge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a speed in a given direction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Speed 10m/sec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Velocity 10m/sec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762120" y="4724280"/>
            <a:ext cx="22096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0" descr="constant speed"/>
          <p:cNvPicPr/>
          <p:nvPr/>
        </p:nvPicPr>
        <p:blipFill>
          <a:blip r:embed="rId1"/>
          <a:stretch/>
        </p:blipFill>
        <p:spPr>
          <a:xfrm>
            <a:off x="762120" y="4952880"/>
            <a:ext cx="2138400" cy="1629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3048120" y="54100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 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12" descr="windspeedg"/>
          <p:cNvPicPr/>
          <p:nvPr/>
        </p:nvPicPr>
        <p:blipFill>
          <a:blip r:embed="rId2"/>
          <a:stretch/>
        </p:blipFill>
        <p:spPr>
          <a:xfrm>
            <a:off x="6324480" y="4648320"/>
            <a:ext cx="2286000" cy="1476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5089680" y="542124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re do you use this in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he_Physics_of_Skateboards.asf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563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38:24Z</dcterms:created>
  <dc:creator>James Scheuer</dc:creator>
  <dc:description/>
  <dc:language>en-US</dc:language>
  <cp:lastModifiedBy>James Scheuer</cp:lastModifiedBy>
  <dcterms:modified xsi:type="dcterms:W3CDTF">2016-01-12T14:26:19Z</dcterms:modified>
  <cp:revision>26</cp:revision>
  <dc:subject/>
  <dc:title>Motion</dc:title>
</cp:coreProperties>
</file>